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F1AA-1A28-49DD-BADE-240AEEC1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57B-BDC1-45B4-8CF9-694DE72F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8D15-3308-4E3D-9AB1-352784F2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29C-BD87-4CD6-806C-FE4D6ACC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149B-9FE5-4599-BA5D-EA58655E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465A-385E-49CA-8FE3-20DEB10A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037B-3E2C-4017-B4C5-BB204529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2909-9900-44C5-AC72-D0A78A69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6942-7459-428B-9933-3310060B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7238-9968-4131-A760-660A8838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975B-2F8D-4BC3-B229-B12953F3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9B7-BE12-4174-BA19-622D9B5E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865B-5EEE-4545-81CF-554C61DF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7B85-8DC6-468D-B2A1-3D564BDE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2A6F-DD38-49D0-9D8B-3F64FB85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D3CC-E379-43C2-8FE5-F20F5F4F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79B4-78DC-44CC-B9A8-88FFDDD1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674-E7F5-4D9D-91DE-124135A1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E429-8ECA-4EE0-93BC-284DB42A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38B7-C641-4998-9CB7-62720AC3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3D5F-04B9-4432-AFBE-D0D7CB75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AC9A-89E1-42D8-A2AD-896DBA09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ECFB-EF8D-45E6-88E0-9D12A846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FD88-2B62-4193-A38F-26CFB8EA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ADBE-4D02-4080-8D4A-940D9F2FAF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7F1A-6DD6-4D73-95B0-964E8150C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Quiz Tim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arker Fe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5410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How should we act on the play structure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57913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How should we act on the grass field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55627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How should we act in the lunch arbor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5639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What kind of snacks are we allowed to bring to school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Transition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36576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How should we walk to recess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What should we do when the bell rings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How should we walk back to our classrooms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55627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How should the equipment be returned and where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5715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What should you do if you need to leave the playground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391520" cy="4267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Zon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How should we act on the blacktop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5:02:17Z</dcterms:created>
  <dc:creator>San Diego City Schools</dc:creator>
  <dc:description/>
  <dc:language>en-US</dc:language>
  <cp:lastModifiedBy>San Diego City Schools</cp:lastModifiedBy>
  <dcterms:modified xsi:type="dcterms:W3CDTF">2009-09-03T16:02:06Z</dcterms:modified>
  <cp:revision>3</cp:revision>
  <dc:subject/>
  <dc:title>Quiz Time</dc:title>
</cp:coreProperties>
</file>